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29C-4D9D-4011-A8E4-4289E6EC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E8C-1674-4EFB-A1CE-4AB1EE4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3272-B524-499B-AB4C-7227489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61CAA-BC24-42FB-A4D4-85196298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C38C-9A77-4AC7-B7C9-D0B9565A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E98B-17F2-4CB8-AF9F-0729744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FEB9-FDCC-476C-A929-3981848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ECC2-E553-4DE9-9A4C-35C2AD3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5F30-8DCA-41AB-8DED-7ABB60F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BDE86-23A9-484A-9638-7F48540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063DC-9FA1-4842-A542-B261B910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68907-C422-4745-99D5-8A040CBA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DEB-FF7B-4316-900D-42DF6FBB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2A5A-0B49-44F3-A72C-4779D904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D80B7-D96A-4DB4-8C17-8466C543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38EAE-210A-46E7-9E35-EC8D1AB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7E6A-54C8-4957-A07B-AA91EBD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1BFD3-97CC-4801-B32B-85AD8498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70D76-07B9-4FB2-BF5E-F9048BC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EC99-D709-4B3A-9B6A-FCAB9F2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F0D2B-F579-4716-82CA-362CEF9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D3905-3C86-4DB4-B03E-67D6281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92EA6-67C6-4BFD-BEEB-7A5303D5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21F-9D10-4C94-BBA6-D7C76655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5EA6E-04B7-4582-A7C6-20D98095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16859-80D4-4608-9B01-44F58D1C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99AE-BB36-45B1-B13D-B149207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2A69-8F31-406E-A907-15021B6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80F0-E982-4527-883A-1363F54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9ADA-0473-47BC-B476-F7CE214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F1D43-115B-4B55-8A9F-7A1369D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9370-FF03-415E-A10C-826921E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C23AD-0655-4627-9407-8F51463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229A-5CF1-48B7-9333-A73DAC7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4FE-5548-4286-9915-FF4FFAA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1CBE1-6E4A-40E1-A2B4-A2FEDED4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B0560-ED02-49D4-B512-9D08F297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1C5D-0FFF-41D1-8952-F646E624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3F4CC-E1C1-4782-A25A-3988A5AE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7A994-E62F-4355-BA61-4448011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647EF-8602-41F1-BBE2-A05FE9B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64800-9F60-4841-96B9-0F02C6A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8726-F8F7-41A2-B2EA-3EBF9FB6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52613-1911-485A-8251-745ED071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4C55-FEA4-4223-8204-A3CD9F1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CF4B-7C86-4FDB-A93D-7F73F85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C08FE-731D-4CEB-BFD3-1A95C42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BBA76-F73B-4F51-B41F-0945513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CF422-AE92-4610-BFF9-591A3BB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F59C8-ABB2-4603-ABF2-DA02C4D7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85B9-9215-4153-927F-AE19D170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8B359-30D9-458F-82BF-475C94D6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B7A86-49BF-4225-B0CC-40D68338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D5F75-A34F-4E0D-B24D-B5D5D8F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B2B90-01B2-43F5-A742-7574AF9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247C7-9CA3-4C91-BE6C-C55A908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56D2-224D-4199-98BB-4B819E8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DEE95-AA0F-4107-9684-886669D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71AA1-0E22-4EBB-A514-4B860621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A2DB1-7AE0-49E6-B6D2-204061C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6BD99-600F-44E5-A7BA-F226792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F7690-D684-4CB6-A171-0C0A7EA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41A3A-11D8-4F4B-BF9B-B7511173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3EC36-B8C2-4AF2-941C-140F6050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10567-F320-4576-B020-D14AFED0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F61C1-9E7E-4BF5-A2A7-321D0AD0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F8AE8-4FDE-4F2C-B33B-E48F669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78C7-000C-4243-AD19-B402611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805AF-7BDF-4E78-9371-D672D1F2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13261-904F-4416-870C-CF5DA7D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4E55B-AE73-4D9E-9D04-C02795C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F5854-1748-480A-9B36-0DDE364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A40B4-F165-408F-8622-04557E0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B367A-28D0-4303-849C-DCFE90F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3F57A-0A26-4331-AEB8-956EFAA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49D9D-E290-4F23-9E1B-6C5C9369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07884-0890-4D09-A798-EA44E7DA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D585F-BD38-4D01-85D3-FB6F6D2C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2A3-2988-4F5C-AE05-CFF970E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75069-DCB7-4D4B-8CBD-5AB73CA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9B505-DE6E-4A0D-80A4-781A97A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1A9DE-1FAF-481F-9BE5-82A816D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E2202-DB43-4A9D-B8CC-60B565E4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B1C06-D4BD-4155-98CA-78FB0411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90406-0B2E-4528-BED4-F42AC4B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4DE21-5D3B-4C4E-B1ED-AD9DBB4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E25C1-6D0E-4CC3-AB29-3D81307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16C52-7D25-43B1-9B0E-5DF3D2B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CE2F7-D41E-4D39-ABD5-B98D1C76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887-74BF-4677-B5DF-17E2510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37542-28D5-436F-9F22-21CC978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E718C-0CD4-479F-96AE-1988E0D7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9BBF4-0592-4627-A4F3-A4DDF73A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169A2-C595-4BF5-8342-139B0B2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B1D2B-EEC4-4BD0-877C-CDCBEB38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72225-DB51-4F5A-83E8-58FE71D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F17D7-DF3B-463A-AFC7-745F8124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18BFB-879F-4BFA-BC7D-378A251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3510C-BF15-4F33-BA3B-7F1CC53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5021A-BDC0-4001-B8F0-DBF32E6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DF46-E480-43BF-A7DE-F2AA0E0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CC44A-5017-4E70-9939-4A18E7E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66045-508B-4F71-AC60-5EEFBD0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2CF04-2306-49F6-B3E1-B2BFB00F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73EB0-6CED-4346-B7F6-8D422AD0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5742E-5654-46C0-A1FF-ECDC709B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096A0-8A43-4DDB-93F4-49C0516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06EAD-09E6-4A9F-AEB3-1264424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FCE2D-917D-411F-97DD-653BFFF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930E0-D9E8-4906-A48D-6EBC204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29A0D-6CDF-40E2-AB2B-061D8FFF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3B9-D2FA-4162-A024-F91ED931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4C0F-E72D-4D0F-8880-9FD50FF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DE58A-F2C9-4DE1-A735-2D6D749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4C4BD-C6A2-4D5B-93F5-E7D2514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9EB00-C017-478C-AF76-5EFAB99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7D0BE-1869-485D-8F55-1F6BD41B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DEBAD-ABEE-4EAD-AE5A-81B337F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3D2BB-0AD7-41B3-9227-DDB9C49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340B1-1049-4F22-B499-5E9262EA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19C8E-FD8C-4231-AE6E-01312438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55F46-0C28-49B0-BA8B-B5A430E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07F9F-9A38-462C-AF04-F2B7D8F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11EA-3B38-4ECA-ADAD-1DF0BCC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8B425-E056-4EDB-B594-FE871B5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FCDB9-ADDF-4B85-9D55-7636FB9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298E5-3C32-4FBC-B853-E987DB1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A823D-7FAB-425E-9C8F-169449A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60898-1526-4965-BE9B-D98748D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84D2F-0071-4DBF-8770-F446CA2E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59D4F-FFEC-476D-A35B-39E82EF0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96732-AEE6-47B0-A410-F223E4B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767A1-6FB0-4C83-B9D6-141355A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1CA88-BB95-4D7E-8B57-F47D19D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F9C-A0FC-479B-B5DA-9D14E16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EDE99-F07E-4F68-A2F2-7E28FAA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00183-FD4C-48E0-AC80-536346D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DB9D0-FAFC-4555-8CEB-C6F6B8A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C787D-54C8-484E-BB4B-75A75D2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A2E29-B047-40CA-939D-18B14FD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FD6BE-A408-4C28-BBA0-B0ADCCB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2B9B6-6A40-464E-BB6C-65C4FDD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00913-C440-4EB8-8ABC-D439993A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3A6B9-5ED7-4D40-89FC-C789CC2C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DAC5B-7205-44D1-8B26-5ECA326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B068-FE4F-480B-8B83-FF2780A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83302-AB43-44F1-8607-9B836933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0701C-CB86-45C0-A76C-67E0FC40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0DEC7-C474-46EC-ADF0-E749A5C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244F6B-29D1-4A63-BD87-FC65F5E2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E044F-A60A-4038-A7F0-EB188AE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4584A-8C29-4811-B3BC-002A8B7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DDBA1-DC55-471F-BD3D-859E7A2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C11FC-A714-45D4-BDB1-2F4A352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CF47B-6169-47DC-834E-00BE110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C5EA6-4E9F-44A2-8589-08F3972A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1487-19BB-4397-AE74-14792245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9E41D-5BA3-4C04-9EBA-41BFAEBD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EB95C-ED9C-423E-851B-1AF6F1DB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301CB-D079-4D58-AEE7-93EEAC6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977E62-79E5-4ED6-9AEF-FE504E88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D98DC-04F9-4692-90AA-22DAC7C1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6B417-5893-46E4-8979-87FA40C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2C249-EECD-430C-AA46-BE43D088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D298C-C08D-4031-BAC2-FE54FCF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12FEA-70F1-4951-8F2F-11CC924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8317F-B318-4B26-A290-D6FE1F5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E01A-5437-4873-9FEA-7B92B7F7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B3D22-057A-4551-80CD-9A17A04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5DCB2-5CA1-427E-9266-9EEEABBC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46FE7-AB7A-48FF-821B-57E5F4B5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AB4D-1EC1-42CA-85ED-DEB8C5D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0707-1FE7-4F48-9522-2211402E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4846-CBA8-428E-8D2D-CF9DDF08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8463-9A62-40CE-B281-16E08DE5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B0B-D484-460A-92F7-C1DFFD7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6265-AC99-4411-9E40-9A9505F3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FD47-2B21-4B76-A5F9-30A36E3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2C20-15A6-409F-AAC1-086CECE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929F-79A5-4658-9132-B974133C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935E-AA86-4FF2-812A-6986F063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B464-4596-473E-9EA9-8E49E5A0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50B9-B90D-4D80-A720-814E32F7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198A-F5F5-42B2-95BA-D40C1F68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6A78-F72D-461F-B050-D4E263C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2A43-82C4-456F-8346-A4007EF5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167-754F-4ABA-BD5E-BF1359A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4A77-03FF-462F-9F6C-B3890F1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5151-60A1-44CC-AFC7-83FA5A5C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6DBA-7E1D-4DE6-BB7F-C19F586F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1962-3A10-4F86-87D9-36DD3B3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F34B5-E254-4C08-A75A-DD35638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23AD-0213-46F3-87E9-BC62A41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2898-3A5C-4B6E-BE39-4958544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20061-AE07-4843-AE9E-19818F9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66B4-0564-433A-A6C9-E9E1CF56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78DF-FF50-40E5-ABE0-BC177FC1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A7A-9703-485C-A0EE-B31C412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AEC5-DE19-4425-A7AC-880C343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58C6-DEAC-4C78-90BD-D0000428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5629-2A1D-4197-8349-CE274C2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B72F-B4F0-4A08-9FA6-82F9DACB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C115-6234-42FE-B3D0-DBD7EA5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7B90-5795-458F-9429-E06B0D4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CC4B-D483-4B12-8877-EA896C8D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85FF-EA72-44E9-9269-896890B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9DA3-7C0E-4D34-B1B4-10B118E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9D8D-6177-4A83-9460-9B06EC4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C24-9455-41B7-BF9E-B75D28F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6C6BA-2645-46EB-B63F-C1A735CA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497B-9469-4CE8-9599-C4DF205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88E5-ADAF-4D5C-A2B9-C229504D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B123-0111-4FBA-9ECB-C81CFC9C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2C5F-9BDF-4DAA-B941-B6F61CF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CF2BF-E414-491B-A6AD-3216D1A5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19B0-C533-442A-83FA-492C38C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9E4A-85D5-42A7-B1DF-F98757C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797F-1E5D-4E52-8204-EE2221C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C3D4F-AF24-4219-ABD1-6ACDAF7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B93-DA13-40C3-83EA-7E250B8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D1D9-1830-42C7-AE40-3490D62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60C7-8213-4003-AC35-7B12D4A9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D1067-7015-45A9-9D35-B5528B9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F1AE-C22F-4E97-900B-3CBC127E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9FDD-2CBB-47F3-A32A-C442C76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AD2B-C6AB-4F5B-BF21-1ED5887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0DF3-977F-4183-B580-E07686F6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7373-7B74-4856-B051-6B76475B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BF628-2E03-4905-9236-C0688BA5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BEF6-82D2-4319-B981-7DF3544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91B-0840-4433-958B-8CA2F84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735A6-9061-4D54-A8C0-DEEF1D9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E3D7-EE32-407A-8975-1E580FB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5D260-3F31-4083-A416-B538DAB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3E439-D258-4711-9ED5-5ED495F0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B365-4BEE-41F7-B62C-FB568ED2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4F69-EC39-41FC-A63B-9898EE49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B89C-DD5B-443E-B53F-930704C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0D23F-28B8-49CF-BD60-03A4D28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9AC8-C889-4D92-9327-960A40C7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6D7A-C410-43FB-93C2-858FA672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323-0F47-48F9-940B-5260A44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7234-4390-49DA-9812-09E0CFD3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A35B-3837-4941-98B9-B8F3B29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CFDD-253C-46F3-B8DB-2B574F5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B4E0E-D7C6-4682-9A4E-1AFB52F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91D1B-C82A-4488-92A5-519E1EAE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05BD-47A4-4858-A2BE-1E190854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D4024-9A11-4EC6-9F41-31C47D21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E1CCE-56E3-4427-9DC3-4D847C32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DFA55-814E-4BB1-90E7-DFB7C84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21816-5EDD-4386-886E-DE17FC3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7AE-5AF0-45C5-9A83-02F5A1F46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474-1AB8-44ED-9E51-FDC9DDFDD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6F07-1818-4C53-8BEB-E3EB7AC24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F089-7267-4EFE-A2E9-C19E992EE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84C-56D3-45BD-80E6-5FEA490DD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039-A42D-4C08-A835-93F1D4A65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5A73-EFEB-43DC-A0DF-8D58CF873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A1FB-0C23-46CF-8DF7-6166EB3AE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F744-FC96-437C-A146-A439AD9E28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C39-19C5-4682-A122-AF846FF6A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0C0-758D-4EDF-B868-4759A74588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DBE-0794-4AB7-B691-E77EA9C35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8E9-204E-42DB-8028-924637F96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06D-4DA3-47C4-A1C1-B393418FB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06D-EE8E-47FF-942C-40D2449FA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B7B7-1826-47E2-89AE-2902C1EF8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C8C-8A56-4082-B20B-C14D7BE8F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40A-E729-4E71-88D7-2C707C880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D2A2-F926-4647-9031-58637418A3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FE0-1320-4108-8E3E-DE8AA9115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67C-FBD8-4A20-B8DD-4F6DD1ED1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5DDD-33A4-4862-A236-71EF0F009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D742-10FF-470A-9C81-C3EAECCCBD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67A-6335-403B-897E-1421008F6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C3E-4C67-42A1-95ED-33EC4B4A8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35C-F1A5-4762-935B-CA6D38568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F599-E3B7-4E1A-9083-39B8DF3970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8EA-7AB5-4F60-8094-B71FCD4C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43B-512D-43AD-93A4-6588B7FB2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548-A9B1-4E54-BA28-3F1221455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20F-7D88-4FAC-B058-EB13F993B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4771-697E-4C42-B109-3F3716238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854-3A2A-4BDA-816E-9D86AB908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304B-E587-46F6-9776-4F1625C47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1A22-CDBD-47DB-AE55-B37B549E3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9D25-6DC0-4C40-A212-11830BE56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E7B-15B9-4936-885A-EF221D61F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9891-EF1A-44B3-A41B-A5B71F8D5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C623-554A-4A4E-B39A-EBCA552A4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B0D-AD8D-43F8-BB87-BCDB20111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94000" y="2419200"/>
            <a:ext cx="5970600" cy="5526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086280" y="3444840"/>
            <a:ext cx="2971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1"/>
          <p:cNvGrpSpPr/>
          <p:nvPr/>
        </p:nvGrpSpPr>
        <p:grpSpPr>
          <a:xfrm>
            <a:off x="252360" y="1566720"/>
            <a:ext cx="8637480" cy="3724560"/>
            <a:chOff x="252360" y="1566720"/>
            <a:chExt cx="8637480" cy="372456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252360" y="1566720"/>
              <a:ext cx="8637480" cy="372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763640" y="2997360"/>
              <a:ext cx="6840720" cy="15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直接连接符 4102"/>
          <p:cNvSpPr/>
          <p:nvPr/>
        </p:nvSpPr>
        <p:spPr>
          <a:xfrm>
            <a:off x="1835280" y="3011400"/>
            <a:ext cx="144144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 flipH="1">
            <a:off x="2050560" y="3011400"/>
            <a:ext cx="129708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4"/>
          <p:cNvSpPr/>
          <p:nvPr/>
        </p:nvSpPr>
        <p:spPr>
          <a:xfrm>
            <a:off x="5148360" y="2982960"/>
            <a:ext cx="144144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5"/>
          <p:cNvSpPr/>
          <p:nvPr/>
        </p:nvSpPr>
        <p:spPr>
          <a:xfrm>
            <a:off x="6732720" y="2967120"/>
            <a:ext cx="1441440" cy="1641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06"/>
          <p:cNvSpPr/>
          <p:nvPr/>
        </p:nvSpPr>
        <p:spPr>
          <a:xfrm flipH="1">
            <a:off x="5292720" y="2982960"/>
            <a:ext cx="3130560" cy="1670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71280" y="1433520"/>
            <a:ext cx="8999640" cy="3990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5146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087560" y="4221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042920" y="48830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719360"/>
            <a:ext cx="8915400" cy="341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609912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772632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451476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6156360" y="3919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6099120" y="458136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28480" y="901800"/>
            <a:ext cx="8085240" cy="54957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171" descr=""/>
          <p:cNvPicPr/>
          <p:nvPr/>
        </p:nvPicPr>
        <p:blipFill>
          <a:blip r:embed="rId2"/>
          <a:stretch/>
        </p:blipFill>
        <p:spPr>
          <a:xfrm>
            <a:off x="2268360" y="1622520"/>
            <a:ext cx="60357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19:3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